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BA9ED-63BC-4EDD-BB85-FED183118C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A9892-503F-42BC-B69D-581E7CDAB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6BF14-5A25-4832-B6B1-79A0161F9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FC07D-5564-4A3D-8B1A-EBAA375862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8C103-B948-4822-AD4A-F8E27CFC0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06044-D906-4BEB-8648-D1F051EA5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02942-A152-408E-9BE7-60F5FF833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6D3AF-3A01-4112-8EB1-F6D30E287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AD99A-9281-4CB2-BE88-92BA053C2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BC5A3-49A2-49C9-AFB8-8BE734D70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D4A0C-F3EF-44BB-AAB0-E0DD7A595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83576-E624-459B-9C8E-B442DB48A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3280"/>
            <a:ext cx="21304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304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B9E62D-C5B8-4B61-9319-95029CE44F22}" type="slidenum">
              <a:rPr b="0" lang="en-C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4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  </a:t>
            </a:r>
            <a:r>
              <a:rPr b="1" lang="en-CA" sz="4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M</a:t>
            </a:r>
            <a:r>
              <a:rPr b="1" lang="pl-PL" sz="4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ÓZG W CHOROBI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Artur Klimaszewski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132000" y="549360"/>
            <a:ext cx="2743200" cy="304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Przykłady nieprawidłowych obrazów </a:t>
            </a:r>
            <a:br>
              <a:rPr sz="4000"/>
            </a:br>
            <a:r>
              <a:rPr b="0" lang="pl-PL" sz="4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w badaniu SPEC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268360" y="1773360"/>
            <a:ext cx="4535640" cy="39830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143080" y="6021360"/>
            <a:ext cx="477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Zniszczenia obserwowane w chorobie Alzheime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Przykłady nieprawidłowych obrazów </a:t>
            </a:r>
            <a:br>
              <a:rPr sz="4000"/>
            </a:br>
            <a:r>
              <a:rPr b="0" lang="pl-PL" sz="4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w badaniu SPEC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2771640" y="1727280"/>
            <a:ext cx="3384720" cy="3789360"/>
            <a:chOff x="2771640" y="1727280"/>
            <a:chExt cx="3384720" cy="3789360"/>
          </a:xfrm>
        </p:grpSpPr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2771640" y="1727280"/>
              <a:ext cx="3384720" cy="378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2771640" y="1727280"/>
              <a:ext cx="3384720" cy="378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4002120" y="5796000"/>
            <a:ext cx="7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ADH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Przykłady nieprawidłowych obrazów </a:t>
            </a:r>
            <a:br>
              <a:rPr sz="4000"/>
            </a:br>
            <a:r>
              <a:rPr b="0" lang="pl-PL" sz="4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w badaniu SPEC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411280" y="1695600"/>
            <a:ext cx="4397400" cy="35337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423960" y="5445000"/>
            <a:ext cx="252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Zaawansowana borelioz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Przeciętny SPECT nie znaczy zdrow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484280"/>
            <a:ext cx="8229600" cy="55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Zdrowe mózgi w SPECT są widywane względnie rzadk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Nieprawidłowości wykryte w SPECT najczęściej powodują problemy psychologiczne, neurologiczne, a czasami psychiatryczn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Ok. 30% ludzi ma widoczne w badaniu SPECT nieprawidłowości; ludzie mający uszkodzenia mózgu są prawie zawsze nieszczęśliwi, często nieefektywni w działaniach i mający poważne problemy interpersonalne z innymi ludźm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Podejrzewa się, że większość rozwodów jest w istocie spowodowane uszkodzeniem mózgu jednego lub obojga małżonków, ludzie z uszkodzeniami podejmują wiele błędnych decyzj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68360" y="189000"/>
            <a:ext cx="82296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Czynniki Uszkadzające Móz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11120" y="930240"/>
            <a:ext cx="822960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Urazy (nawet  te małe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Alkohol (każda ilość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Chroniczny lub częsty stre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Nadmiernie długa praca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Za dużo kawy i napojów energetyzujących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Narażenie na rozpuszczalniki organiczn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Brak ruchu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Niektóre leki (zwłaszcza przeciwbólowe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Narkotyki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Bezsenność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Udary mózgu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Glutaminian (głównie u osób wrażliwych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Narażenie na pyły, zwłaszcza drobn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Nadciśnienie tętnicz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Choroby naczyń krwionośnych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Neuroinfekcje (bakteryjne, wirusowe, pasożytnicze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7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Uwaga: badanie SPECT jest względnie niespecyficzne tzn. zwykle nie różnicuje  przyczyn uszkodzeń; tylko czasami sugeruje ich istotę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Zastosowanie SPECT w Boreliozi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600200"/>
            <a:ext cx="8229600" cy="802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Uniwersytet Columbia NJ obecnie bada</a:t>
            </a:r>
            <a:r>
              <a:rPr b="0" lang="en-CA" sz="26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,</a:t>
            </a:r>
            <a:r>
              <a:rPr b="0" lang="pl-PL" sz="26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 ale brak ostatecznej publikacji i wnioskó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Z uwagi na bardzo różnorodny obraz diagnostyka boreliozy w oparciu o sam SPECT prawdopodobnie nie będzie możliw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SPECT może okazać się doskonałym narzędziem do monitorowania leczeni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Problem: Wysoki koszt badania i konieczność wielokrotnego powtarzani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Korzyści z badania SPEC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62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Zlokalizowanie nieprawidłowoś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Możliwość interwencji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-  specyficzne suplementy poprawiające biologię mózgu w miejscu uszkodze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-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leki wpływające na czynność mózg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-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usunięcie szkodliwych czynnikó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-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motywacja do prowadzenia zdrowego stylu życ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Interwencja: zmiana stylu życia</a:t>
            </a:r>
            <a:br>
              <a:rPr sz="4400"/>
            </a:br>
            <a:r>
              <a:rPr b="0" lang="pl-PL" sz="16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wskazane dla każdego, kto ma jakiekolwiek uszkodzenia mózg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11120" y="1619280"/>
            <a:ext cx="8229600" cy="53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Unikanie substancji szkodliwych , w tym złej żywności oraz cukru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Unikanie kawy, alkoholu, używek i narkotyków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Ruch i ćwiczeni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Dobra</a:t>
            </a:r>
            <a:r>
              <a:rPr b="0" lang="en-CA" sz="2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 m</a:t>
            </a:r>
            <a:r>
              <a:rPr b="0" lang="pl-PL" sz="2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ultiwitamin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Olej rybi (z uwagi na zawartość DHA) lub lepiej same ryby, ale te gatunki, które mają niską zawartość rtęc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Walka z chronicznym stresem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Calibri"/>
              <a:buChar char="-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zmiana otoczenia na spokojniejsz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Calibri"/>
              <a:buChar char="-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medytacj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Calibri"/>
              <a:buChar char="-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pamiętnik emocjonaln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Calibri"/>
              <a:buChar char="-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witamina C w megadawkach (zapobiega tworzeniu się hormonów stresu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Calibri"/>
              <a:buChar char="-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grupa wsparcia (formalna grupa wsparcia, przyjaciele, różnego typu organizacje wspólnotowe, może nawet wspierająca rodzina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Interwencje specyficzne do uszkodzeń</a:t>
            </a:r>
            <a:br>
              <a:rPr sz="4000"/>
            </a:br>
            <a:r>
              <a:rPr b="0" lang="pl-PL" sz="2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Symptomy pozwalają na lokalizację uszkodze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1640" y="1684440"/>
            <a:ext cx="854244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Suplementy lub leki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Uwaga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Ostrożnie interpretować podane dalej objawy uszkodzeń, interpretacja częściowo zastępuje drogie badanie SPEC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Prawdopodobieństwo danego uszkodzenia duże, jeżeli występuje połowa lub więcej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z wymienionych objawów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Przyjaciel lub ktoś z rodziny powinien pomóc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w ocenie i diagnozie, aby nie zatracić obiektywizmu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Prawdopodobne uszkodzenie kory czołowe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197000"/>
            <a:ext cx="8229600" cy="54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7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Objawy: 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Calibri"/>
              <a:buAutoNum type="arabicPeriod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7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Kłopoty w utrzymaniu koncentracji, tendencje do rozproszenia się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Calibri"/>
              <a:buAutoNum type="arabicPeriod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7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Odwlekanie wykonania</a:t>
            </a:r>
            <a:r>
              <a:rPr b="0" lang="en-CA" sz="27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 waż</a:t>
            </a:r>
            <a:r>
              <a:rPr b="0" lang="pl-PL" sz="27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nych zadań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Calibri"/>
              <a:buAutoNum type="arabicPeriod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7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Brak dokładności w pracy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Calibri"/>
              <a:buAutoNum type="arabicPeriod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7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Niecierpliwość, potrzeba natychmiastowej gratyfikacji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Calibri"/>
              <a:buAutoNum type="arabicPeriod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7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Ciągłe poczucie niepokoju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Calibri"/>
              <a:buAutoNum type="arabicPeriod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7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Tendencja do przerywania rozmówcom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Calibri"/>
              <a:buAutoNum type="arabicPeriod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7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Impulsywne decyzj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Calibri"/>
              <a:buAutoNum type="arabicPeriod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7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Poszukiwanie ekscytacji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Calibri"/>
              <a:buAutoNum type="arabicPeriod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7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Tendencja do nałogów (tytoń, komputer etc.)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Fakty na temat mózg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1628640"/>
            <a:ext cx="8229600" cy="54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Zawiera neurony, które służą do przekazywania informacji (część odbierająca, część przewodząca i część przekazując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- Mielinizacja przyspiesza pracę mózg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Komórki pomocnicze: astrocyty, komórki glejow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Chemiczny skła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libri"/>
              <a:buChar char="-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Woda 8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libri"/>
              <a:buChar char="-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Tłuszcze 12%  (ok 60% suchej masy)   DH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Konsystencja mózg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Delikatność tkanki nerwowej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Prawdopodobne uszkodzenie kory czołowej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specyficzne środki zaradc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1341360"/>
            <a:ext cx="8229600" cy="65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Leki: Adderal, Strattera (leki niekoniecznie dostępne w Pols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Testosteron, tyroksyna, estradiol, progesteron (jeżeli niskie poziom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Dieta uboga w cukry (a nawet węglowodany), a  bogata w białk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Konsultacja alergologicz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Suplementy: ekstrakt z zielonej herbaty, imbir, SAMe, ginkgo biloba, kofeina (mała ilość), cy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57200" y="1197000"/>
            <a:ext cx="8229600" cy="52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11200" indent="-511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Natarczywe negatywne myśl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Ciągłe martwienie si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Tendencje do natrętnego zachowa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Pamiętanie krzyw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Negatywna reakcja na brak porządk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Kłótliwoś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Brak ochoty na jakiekolwiek zmian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Brak postrzegania możliwych rozwiąza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27468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</a:rPr>
              <a:t>Prawdopodobne uszkodzenie zakrętu obręcz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Leki: Prozac, Paxil, Zoloft, Effexor, Cymbal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Ważna aktywność fizycz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Suplementy : L-tryptofan, 5 HTP, dziurawiec, GABA, inositol, szafran (np. francuski </a:t>
            </a:r>
            <a:r>
              <a:rPr b="0" lang="en-CA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Satiereal</a:t>
            </a: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Prawdopodobne uszkodzenie zakrętu obręczy</a:t>
            </a:r>
            <a:br>
              <a:rPr sz="3200"/>
            </a:b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 specyficzne środki zaradc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Prawdopodobne uszkodzenie układu limbiczne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9640" y="1619280"/>
            <a:ext cx="8229600" cy="55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11200" indent="-511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pl-PL" sz="3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Smutek, negatywiz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pl-PL" sz="3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Brak jakiejkolwiek satysfakcji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pl-PL" sz="3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Nud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pl-PL" sz="3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Brak energii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pl-PL" sz="3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Brak zapału do czegokolwie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pl-PL" sz="3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Poczucie beznadziejności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pl-PL" sz="3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Poczucie win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pl-PL" sz="3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Płacz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pl-PL" sz="3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Niska samoocen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pl-PL" sz="3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Brak przyjació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38240"/>
            <a:ext cx="822960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9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Prawdopodobne uszkodzenie układu limbicznego</a:t>
            </a:r>
            <a:br>
              <a:rPr sz="2900"/>
            </a:br>
            <a:r>
              <a:rPr b="0" lang="pl-PL" sz="29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 specyficzne środki zaradcze </a:t>
            </a:r>
            <a:br>
              <a:rPr sz="2900"/>
            </a:b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Leki: antydepresanty, Effexor, Cymbalta, sole litu, Neurontin (zwłaszcza jeżeli są ból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Suplementy: GABA, mięta, witamina B6, magne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2746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Prawdopodobne uszkodzenie zwojów podstawny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1268280"/>
            <a:ext cx="8229600" cy="53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11200" indent="-511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Nerwowość i niepokó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Pani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Bóle napięciowe z mięś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Fataliz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Unikanie konfliktów - na sił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Nadmierna motywacja (pracoholik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Niepewność i brak wiary w sieb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Łatwość przestraszenia się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Prawdopodobne uszkodzenie zwojów podstawnych</a:t>
            </a:r>
            <a:br>
              <a:rPr sz="3000"/>
            </a:br>
            <a:r>
              <a:rPr b="0" lang="pl-PL" sz="28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 specyficzne środki zaradcz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Leki: przeciwpadaczkowe, Buspar, propranol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Suplementy: GABA, B6, mięta, magne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57200" y="27468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Prawdopodobne uszkodzenie płata skroniowe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1125360"/>
            <a:ext cx="8229600" cy="72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11200" indent="-511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Calibri"/>
              <a:buAutoNum type="arabicPeriod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pl-PL" sz="27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Brak opanowania, brak bezpieczników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Calibri"/>
              <a:buAutoNum type="arabicPeriod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pl-PL" sz="27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Drobne irytacje prowadzą do eksplozji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Calibri"/>
              <a:buAutoNum type="arabicPeriod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pl-PL" sz="27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Niestabilny, zmienny nastrój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Calibri"/>
              <a:buAutoNum type="arabicPeriod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pl-PL" sz="27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Interpretacja usłyszanych komentarzy - zawsze na ‘nie’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Calibri"/>
              <a:buAutoNum type="arabicPeriod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pl-PL" sz="27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Deja vu (poczucie: kiedyś już tak było)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Calibri"/>
              <a:buAutoNum type="arabicPeriod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pl-PL" sz="27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Nadmierna podejrzliwość wobec zamiarów innych  ludzi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Calibri"/>
              <a:buAutoNum type="arabicPeriod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pl-PL" sz="27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Nagłe agresywne myśli, czasami wręcz mordercz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Calibri"/>
              <a:buAutoNum type="arabicPeriod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pl-PL" sz="27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Zapominanie odpowiednich wyrazów w trakcie mówienia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Calibri"/>
              <a:buAutoNum type="arabicPeriod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pl-PL" sz="27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Bóle głowy i brzucha bez wyraźnej przyczyny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57200" y="212760"/>
            <a:ext cx="8229600" cy="9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9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Prawdopodobne uszkodzenie płata skroniowego</a:t>
            </a:r>
            <a:br>
              <a:rPr sz="2900"/>
            </a:br>
            <a:r>
              <a:rPr b="0" lang="pl-PL" sz="29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 specyficzne środki zaradcze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14440" indent="-511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14440"/>
                <a:tab algn="l" pos="961920"/>
                <a:tab algn="l" pos="1411200"/>
                <a:tab algn="l" pos="1860480"/>
                <a:tab algn="l" pos="2309760"/>
                <a:tab algn="l" pos="2759040"/>
                <a:tab algn="l" pos="3208320"/>
                <a:tab algn="l" pos="3657600"/>
                <a:tab algn="l" pos="4106880"/>
                <a:tab algn="l" pos="4556160"/>
                <a:tab algn="l" pos="5005440"/>
                <a:tab algn="l" pos="5454720"/>
                <a:tab algn="l" pos="5904000"/>
                <a:tab algn="l" pos="6353280"/>
                <a:tab algn="l" pos="6802560"/>
                <a:tab algn="l" pos="7251840"/>
                <a:tab algn="l" pos="7701120"/>
                <a:tab algn="l" pos="8150400"/>
                <a:tab algn="l" pos="8599320"/>
                <a:tab algn="l" pos="9048600"/>
                <a:tab algn="l" pos="949788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Leki: leki przeciwpadaczkowe, Depakote, Lamic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1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14440"/>
                <a:tab algn="l" pos="961920"/>
                <a:tab algn="l" pos="1411200"/>
                <a:tab algn="l" pos="1860480"/>
                <a:tab algn="l" pos="2309760"/>
                <a:tab algn="l" pos="2759040"/>
                <a:tab algn="l" pos="3208320"/>
                <a:tab algn="l" pos="3657600"/>
                <a:tab algn="l" pos="4106880"/>
                <a:tab algn="l" pos="4556160"/>
                <a:tab algn="l" pos="5005440"/>
                <a:tab algn="l" pos="5454720"/>
                <a:tab algn="l" pos="5904000"/>
                <a:tab algn="l" pos="6353280"/>
                <a:tab algn="l" pos="6802560"/>
                <a:tab algn="l" pos="7251840"/>
                <a:tab algn="l" pos="7701120"/>
                <a:tab algn="l" pos="8150400"/>
                <a:tab algn="l" pos="8599320"/>
                <a:tab algn="l" pos="9048600"/>
                <a:tab algn="l" pos="9497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1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14440"/>
                <a:tab algn="l" pos="961920"/>
                <a:tab algn="l" pos="1411200"/>
                <a:tab algn="l" pos="1860480"/>
                <a:tab algn="l" pos="2309760"/>
                <a:tab algn="l" pos="2759040"/>
                <a:tab algn="l" pos="3208320"/>
                <a:tab algn="l" pos="3657600"/>
                <a:tab algn="l" pos="4106880"/>
                <a:tab algn="l" pos="4556160"/>
                <a:tab algn="l" pos="5005440"/>
                <a:tab algn="l" pos="5454720"/>
                <a:tab algn="l" pos="5904000"/>
                <a:tab algn="l" pos="6353280"/>
                <a:tab algn="l" pos="6802560"/>
                <a:tab algn="l" pos="7251840"/>
                <a:tab algn="l" pos="7701120"/>
                <a:tab algn="l" pos="8150400"/>
                <a:tab algn="l" pos="8599320"/>
                <a:tab algn="l" pos="9048600"/>
                <a:tab algn="l" pos="949788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Suplementy: GABA, mięta (Lemon balm), B6, magne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Prawdopodobne uszkodzenie pamięc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11120" y="1440000"/>
            <a:ext cx="8229600" cy="48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11200" indent="-511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Calibri"/>
              <a:buAutoNum type="arabicPeriod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pl-PL" sz="27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Zapominalstwo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Calibri"/>
              <a:buAutoNum type="arabicPeriod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pl-PL" sz="27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Zapominanie o spotkaniach i opłacaniu rachunków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Calibri"/>
              <a:buAutoNum type="arabicPeriod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pl-PL" sz="27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Zapominanie o przyjmowaniu leków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Calibri"/>
              <a:buAutoNum type="arabicPeriod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pl-PL" sz="27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Zapominanie niedawnych zdarzeń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Calibri"/>
              <a:buAutoNum type="arabicPeriod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pl-PL" sz="27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Kłopoty w pamiętaniu imi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Calibri"/>
              <a:buAutoNum type="arabicPeriod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pl-PL" sz="27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Kłopoty z pamiętaniem materiału w szkole i pracy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Calibri"/>
              <a:buAutoNum type="arabicPeriod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pl-PL" sz="27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Pamiętanie czegoś jednego dnia, a drugiego dnia ni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Calibri"/>
              <a:buAutoNum type="arabicPeriod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pl-PL" sz="27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Zapominanie co się chciało powiedzieć w trakcie mówienia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Calibri"/>
              <a:buAutoNum type="arabicPeriod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pl-PL" sz="27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Kłopoty w rozumieniu instrukcji mających więcej niż dwa etapy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Widok na lewą stronę mózg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709720" y="1916280"/>
            <a:ext cx="3724560" cy="25239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352160" y="5732640"/>
            <a:ext cx="7358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Widać płat czołowy, płat ciemieniowy, płat skroniowy, korę wzrokową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móżdżek i trochę pnia mózgu; na przekroju mózgu po lewej stronie widoczn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układ limbicz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2171880" y="1371600"/>
            <a:ext cx="48006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Prawdopodobne uszkodzenie pamięci</a:t>
            </a:r>
            <a:br>
              <a:rPr sz="3200"/>
            </a:b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 specyficzne środki zaradcz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Leki: Nameda, Aricept, Exelon, Reminy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Suplementy: witamina D3, witamina E (najlepiej naturalna),  olej rybi i ryba, kurkuma, kwas foliowy, Huperzine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Prawdopodobne uszkodzenie móżdżk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11200" indent="-5112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Calibri"/>
              <a:buAutoNum type="arabicPeriod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pl-PL" sz="27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Niezdarność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Calibri"/>
              <a:buAutoNum type="arabicPeriod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pl-PL" sz="27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Zderzanie się z meblami, framugą drzwi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Calibri"/>
              <a:buAutoNum type="arabicPeriod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pl-PL" sz="27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Nieczytelny charakter pisma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Calibri"/>
              <a:buAutoNum type="arabicPeriod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pl-PL" sz="27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Brak organizacji i bałagan w miejscu pracy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Calibri"/>
              <a:buAutoNum type="arabicPeriod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pl-PL" sz="27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Układanie stosów papierów lub stosów rzeczy w mieszkaniu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Calibri"/>
              <a:buAutoNum type="arabicPeriod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pl-PL" sz="27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Nadwrażliwość na dźwięki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Calibri"/>
              <a:buAutoNum type="arabicPeriod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pl-PL" sz="27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Nadwrażliwość na dotyk lub szorstkie ubrani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Calibri"/>
              <a:buAutoNum type="arabicPeriod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pl-PL" sz="27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Problemy w przyswojeniu nowej informacji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Calibri"/>
              <a:buAutoNum type="arabicPeriod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pl-PL" sz="27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Gubienie się; gubienie tematu w trakcie rozmowy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Calibri"/>
              <a:buAutoNum type="arabicPeriod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pl-PL" sz="27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Powolność myślenia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Leki: nie 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Suplementy:  witamina D3, witamina E (najlepiej naturalna),  olej rybi i ryba, kurkuma, kwas foliowy, Huperzine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Prawdopodobne uszkodzenie móżdżku</a:t>
            </a:r>
            <a:br>
              <a:rPr sz="3200"/>
            </a:b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 specyficzne środki zaradcz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Interwencj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1773360"/>
            <a:ext cx="822960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Rehabilitacja i usprawnie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-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Mózg regeneruje</a:t>
            </a: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Motywac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Zdrowa die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Rehabilitacj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Mózg jako twór plastycz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Rehabilitacja uszkodzeń ruchowy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Rehabilitacja uszkodzeń czuciowy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Rehabilitacja funkcji umysłowy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 </a:t>
            </a: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pamię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 </a:t>
            </a: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rozwiązywanie problemó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 </a:t>
            </a: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przyspieszanie pracy umysłowe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 </a:t>
            </a: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poprawa zrozumie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Internet jako sposób na ćwiczenia Mózgu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1600200"/>
            <a:ext cx="8229600" cy="50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Przykładowe miejsca internetowe na których można poprawiać pracę mózgu t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braingle.com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braincurls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Istnieją też całkiem dobre miejsca płat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Nie są znane dobre polskie strony oferujące podobne usług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2190600" y="1166760"/>
            <a:ext cx="4762800" cy="45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6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Problemy z Krążeniem Żylnym Mózgowy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155736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Odkrycie Paolo’a Zambonie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Ostrożność wobec nowej meto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Straty dla rynku farmaceutycznego produkującego leki na stwardnienie rozsi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Potencjał w leczeniu chorób odkleszczowy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Ryzyk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Kosz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Dostępność diagnostyki i lecze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95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 </a:t>
            </a:r>
            <a:r>
              <a:rPr b="0" lang="pl-PL" sz="4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Procedu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1125360"/>
            <a:ext cx="82296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CCSVI co jest skrótem z terminu angielskieg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Chronic Cerebro-Spinal Venous Insuffici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W polskim tłumaczeniu to: chroniczna mózgowo-rdzeniowa niewydolność żyl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Potoczna nazwa  zabiegu  to liberation trea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Co oznacza operację uwolnie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Dużo dobrych informacji na stroni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liberation-treatment.com</a:t>
            </a:r>
            <a:r>
              <a:rPr b="0" lang="pl-PL" sz="2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  (język angielski niestet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Hipotetyczna rola patologii krążenia żylnego w przebiegu chorób odkleszczowych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773360"/>
            <a:ext cx="8229600" cy="47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libri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Infekcja patogenam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libri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Zasiedlenie naczyń żylny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libri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Zmiany zapalne w ścianach naczy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libri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Utrudnienie odpływu żylnego z mózg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libri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Nasilenie infekcji w blokowanych naczyniach krwionośny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libri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Uszkodzenie bariery krew-mózg i penetracja mikrobów do mózg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libri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Objawy ze strony układu nerwowe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libri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Ograniczone możliwości działania dla układu obronneg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w zablokowanych naczynia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515880"/>
            <a:ext cx="8229600" cy="64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Płat czołowy: osąd, przewidywanie, planowanie, kontrola impulsu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Zakręt obręczy: zmiana myśli (jak skrzynia biegów w samochodzie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System limbiczny: emocje, nastrój, przywiązani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Zwoje podstawne: integracja myśli, uczuć, ruchu, ośrodek przyjemności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Płat skroniowy: pamięć, stabilność nastroju, obróbka wrażeń słuchowyc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Płat ciemieniowy: procesy czuciowe, poczucie kierunku, również dążenie do celu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Móżdżek: koordynacja ruchu i myśli, osąd, szybkość myśleni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Interwencja w formie udrożnienia spływu żylnego mózg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Balonizacja naczyń żylnych lub założenie stentów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Poprawa przepływów mózgowy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Lepsze działanie antybiotyków i leków p/wirusowy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Lepsze działanie układu obronne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Zwalczenie infekcj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Zniknięcie lub zmniejszenie objawó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Diagnostyka niedrożności żylnego spływu z mózg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1600200"/>
            <a:ext cx="8229600" cy="46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3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Diagnostyka  kliniczna - niepewna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3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Badanie dopplerowskie układu żylnego  (zwykle w pozycji leżącej i siedzącej)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3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Badanie rezonansem magnetycznym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3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flebografia - główne badanie, dające ostateczny obraz stanu żył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3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Uwaga: wykonywanie badań diagnostycznych niedrożności układu żylnego wymaga doświadczenia; przeważająca większość ultrasonografistów i chirurgów naczyniowych nie posiada dostatecznych umiejętności; podkreśla się konieczność treningu w ośrodku we Włoszech pod nadzorem samego twórcy metody lub jego doświadczonego zespołu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Ośrodki w Pols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1600200"/>
            <a:ext cx="8229600" cy="48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Katowice:</a:t>
            </a:r>
            <a:r>
              <a:rPr b="1" lang="pl-PL" sz="2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 Euromedic Poland  </a:t>
            </a:r>
            <a:r>
              <a:rPr b="0" lang="pl-PL" sz="2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ul. Uniwersytecka 13</a:t>
            </a:r>
            <a:br>
              <a:rPr sz="2000"/>
            </a:br>
            <a:r>
              <a:rPr b="0" lang="en-CA" sz="2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euromedicpoland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dopplerowskie badanie przepływu żył szyjnych wewnętrznych (USG) wg protokołu Zamboniego - badanie obowiązkow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badanie rezonansu magnetycznego naczyń szyi i śródpiersia wg protokołu Stanford  - badanie obowiązkowe, o ile pacjent nie zostanie wykluczony przez wcześniejsze badan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badanie okulistyczne - ocena pola widzenia i OCT (ocena włókien nerwu II, komórek zwojowych) - badanie obowiązkowe, o ile pacjent nie zostanie wykluczony przez wcześniejsze badan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Ośrodki w Polsce cd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Warszawa: </a:t>
            </a:r>
            <a:r>
              <a:rPr b="1" lang="pl-PL" sz="2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AMEDS</a:t>
            </a:r>
            <a:r>
              <a:rPr b="0" lang="pl-PL" sz="2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 Al. Ujazdowskie 41, </a:t>
            </a:r>
            <a:r>
              <a:rPr b="0" lang="pl-PL" sz="2000" spc="-1" strike="noStrike">
                <a:solidFill>
                  <a:srgbClr val="eeece1"/>
                </a:solidFill>
                <a:latin typeface="Calibri"/>
                <a:ea typeface="Lucida Sans Unicode"/>
              </a:rPr>
              <a:t>ameds.p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         </a:t>
            </a:r>
            <a:r>
              <a:rPr b="0" lang="pl-PL" sz="1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Diagnostyka </a:t>
            </a:r>
            <a:r>
              <a:rPr b="0" lang="en-CA" sz="1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CCSVI</a:t>
            </a:r>
            <a:br>
              <a:rPr sz="1400"/>
            </a:br>
            <a:br>
              <a:rPr sz="1400"/>
            </a:br>
            <a:r>
              <a:rPr b="0" lang="en-CA" sz="1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(USG Doppler, MRV</a:t>
            </a:r>
            <a:r>
              <a:rPr b="0" lang="pl-PL" sz="1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 –wenografia z magnetycznym rezonansem</a:t>
            </a:r>
            <a:r>
              <a:rPr b="0" lang="en-CA" sz="1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,</a:t>
            </a:r>
            <a:r>
              <a:rPr b="0" lang="pl-PL" sz="1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 badanie neurologicz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 </a:t>
            </a:r>
            <a:br>
              <a:rPr sz="1400"/>
            </a:br>
            <a:br>
              <a:rPr sz="1400"/>
            </a:br>
            <a:r>
              <a:rPr b="0" lang="pl-PL" sz="1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Leczenie </a:t>
            </a:r>
            <a:r>
              <a:rPr b="0" lang="en-CA" sz="1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CCSVI  – </a:t>
            </a:r>
            <a:r>
              <a:rPr b="0" lang="pl-PL" sz="1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otworzenie blokad żylnych balonem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0" lang="pl-PL" sz="1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 Leczenie </a:t>
            </a:r>
            <a:r>
              <a:rPr b="0" lang="en-CA" sz="1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CCSVI – </a:t>
            </a:r>
            <a:r>
              <a:rPr b="0" lang="pl-PL" sz="1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jeden stent</a:t>
            </a:r>
            <a:br>
              <a:rPr sz="1400"/>
            </a:br>
            <a:br>
              <a:rPr sz="1400"/>
            </a:br>
            <a:r>
              <a:rPr b="0" lang="en-CA" sz="1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(</a:t>
            </a:r>
            <a:r>
              <a:rPr b="0" lang="pl-PL" sz="1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W</a:t>
            </a:r>
            <a:r>
              <a:rPr b="0" lang="en-CA" sz="1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eno</a:t>
            </a:r>
            <a:r>
              <a:rPr b="0" lang="pl-PL" sz="1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grafia rentgenowska</a:t>
            </a:r>
            <a:r>
              <a:rPr b="0" lang="en-CA" sz="1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,  2 </a:t>
            </a:r>
            <a:r>
              <a:rPr b="0" lang="pl-PL" sz="1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dniowy pobyt w szpitalu</a:t>
            </a:r>
            <a:r>
              <a:rPr b="0" lang="en-CA" sz="1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, </a:t>
            </a:r>
            <a:r>
              <a:rPr b="0" lang="pl-PL" sz="1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końcowe </a:t>
            </a:r>
            <a:r>
              <a:rPr b="0" lang="en-CA" sz="1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USG Doppl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r>
              <a:rPr b="0" lang="en-CA" sz="1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CCSVI TREATMENT – </a:t>
            </a:r>
            <a:r>
              <a:rPr b="0" lang="pl-PL" sz="1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dwa stenty</a:t>
            </a:r>
            <a:br>
              <a:rPr sz="1400"/>
            </a:br>
            <a:br>
              <a:rPr sz="1400"/>
            </a:br>
            <a:r>
              <a:rPr b="0" lang="en-CA" sz="1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(</a:t>
            </a:r>
            <a:r>
              <a:rPr b="0" lang="pl-PL" sz="1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W</a:t>
            </a:r>
            <a:r>
              <a:rPr b="0" lang="en-CA" sz="1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eno</a:t>
            </a:r>
            <a:r>
              <a:rPr b="0" lang="pl-PL" sz="1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grafia rentgenowska</a:t>
            </a:r>
            <a:r>
              <a:rPr b="0" lang="en-CA" sz="1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,  2 </a:t>
            </a:r>
            <a:r>
              <a:rPr b="0" lang="pl-PL" sz="1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dniowy pobyt w szpitalu</a:t>
            </a:r>
            <a:r>
              <a:rPr b="0" lang="en-CA" sz="1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, </a:t>
            </a:r>
            <a:r>
              <a:rPr b="0" lang="pl-PL" sz="1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końcowe </a:t>
            </a:r>
            <a:r>
              <a:rPr b="0" lang="en-CA" sz="1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USG Doppler)</a:t>
            </a:r>
            <a:br>
              <a:rPr sz="1400"/>
            </a:br>
            <a:br>
              <a:rPr sz="13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Ośrodki na świeci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1600200"/>
            <a:ext cx="8229600" cy="48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Włochy: </a:t>
            </a:r>
            <a:r>
              <a:rPr b="0" lang="it-IT" sz="2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Università degli Studi di Ferrara</a:t>
            </a: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Corso della Giovecca, 203</a:t>
            </a:r>
            <a:r>
              <a:rPr b="0" lang="pl-PL" sz="2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;  </a:t>
            </a:r>
            <a:r>
              <a:rPr b="0" lang="it-IT" sz="2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Ferrara, 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telefon</a:t>
            </a:r>
            <a:r>
              <a:rPr b="0" lang="it-IT" sz="2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: 0532 236304</a:t>
            </a:r>
            <a:r>
              <a:rPr b="0" lang="pl-PL" sz="2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  - dostęp obecnie utrudniony - placówka badawcza koncentrująca się na badaniach naukowych a nie usługówk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Stanford University School of Medicine</a:t>
            </a:r>
            <a:br>
              <a:rPr sz="2000"/>
            </a:br>
            <a:r>
              <a:rPr b="0" lang="en-CA" sz="2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300 Pasteur Dr.</a:t>
            </a:r>
            <a:br>
              <a:rPr sz="2000"/>
            </a:br>
            <a:r>
              <a:rPr b="0" lang="en-CA" sz="2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Stanford, CA 94305-5642</a:t>
            </a:r>
            <a:r>
              <a:rPr b="0" lang="pl-PL" sz="2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 -  obecnie dostęp utrudniony z uwagi na kontrowersje stworzoną przez amerykańskie władze medycz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Ośrodek w Kanadzie – brak dostępu z powodu kontrowersji, tak  ja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w US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Istnieją też ośrodki w Bułgarii oraz w Indiach o których mniej wiadom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Rezulta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1600200"/>
            <a:ext cx="8229600" cy="57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    </a:t>
            </a:r>
            <a:r>
              <a:rPr b="0" lang="pl-PL" sz="2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U 90% pacjentów ze Stwardnieniem Rozsianym poprawa następuj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    </a:t>
            </a:r>
            <a:r>
              <a:rPr b="0" lang="pl-PL" sz="2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w ciągu kilku tygodni, poprawa czasami zauważalna jest natychmiast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    </a:t>
            </a:r>
            <a:r>
              <a:rPr b="0" lang="pl-PL" sz="2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u niektórych chorych następuje całkowite wyzdrowienie, częściej  niektó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    </a:t>
            </a:r>
            <a:r>
              <a:rPr b="0" lang="pl-PL" sz="2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objawy pozostaj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Potencjalne problemy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Brak  poprawy u około 10% chorych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U chorych z poprawą możliwy nawrót choroby po kilku miesiącach lub latach, potrzeba powtórnego zabiegu występuje u około 40% chory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Samoistne przemieszczenie stenta wymagające czasami  pilnej operacj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Typowe ryzyko zabiegu chirurgicznego (krwotok, reakcja na lek lub znieczulenie, infekcj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A co w dziale „Borelioza”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" y="1341360"/>
            <a:ext cx="8229600" cy="61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Nie ma badań na ile niewydolność żylna jest problem u chorych z chorobami odkleszczowymi, których leczenie nie ma progresu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Dr </a:t>
            </a:r>
            <a:r>
              <a:rPr b="0" lang="en-CA" sz="19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Paolo Zamboni</a:t>
            </a:r>
            <a:r>
              <a:rPr b="0" lang="pl-PL" sz="19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  jest świadomy tego, że problem niewydolności odpływu żylnego z mózgu może mieć znaczenie i w innych chorobach neurologicznych, w tym w chorobach odkleszczowych, niestety nie ma jak dotąd informacji kiedy problem zostanie zbadany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Nie wiadomo, czy  zajmie się wyjaśnianiem tej kwestii Ośrodek Badawczy Boreliozy i Chorób Odkleszczowych  istniejący przy Uniwersytecie Columbia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w Nowym Jorku;  ten ośrodek jest również świadomy tego potencjalnego patomechanizmu choroby u części chorych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Diagnoza niewydolności  żylnej sama w sobie, bez konieczności istnienia objawów takich jak w stwardnieniu rozsianym,  jest wskazaniem do interwencji chirurgicznej, czyli diagnoza MS nie jest konieczna do wykonania badań diagnostycznych i zabiegu uwolnienia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755640" y="3716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Pożyjemy, zobaczym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11280" y="404640"/>
            <a:ext cx="7921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ffffff"/>
                </a:solidFill>
                <a:latin typeface="Calibri"/>
              </a:rPr>
              <a:t>Jaka jest przyszłość zabiegów na układzi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ffffff"/>
                </a:solidFill>
                <a:latin typeface="Calibri"/>
              </a:rPr>
              <a:t>odbierającym krew z mózgu jeżeli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ffffff"/>
                </a:solidFill>
                <a:latin typeface="Calibri"/>
              </a:rPr>
              <a:t>chodzi  o odkleszczówki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Diagnostyka Mózg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Zwykły rentge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EE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Badanie płynu mózgowo-rdzeniowe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Arteriograf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Tomografia komputerow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Rezonans magnetycz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SPECT </a:t>
            </a:r>
            <a:r>
              <a:rPr b="0" lang="pl-PL" sz="2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(</a:t>
            </a:r>
            <a:r>
              <a:rPr b="0" lang="en-CA" sz="2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Single photon emission computed tomography</a:t>
            </a:r>
            <a:r>
              <a:rPr b="0" lang="pl-PL" sz="2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Scan SPEC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971640" y="1341360"/>
            <a:ext cx="2381040" cy="2667240"/>
            <a:chOff x="971640" y="1341360"/>
            <a:chExt cx="2381040" cy="2667240"/>
          </a:xfrm>
        </p:grpSpPr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971640" y="1341360"/>
              <a:ext cx="2381040" cy="266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971640" y="1341360"/>
              <a:ext cx="2381040" cy="266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5148360" y="1341360"/>
            <a:ext cx="2654280" cy="2664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919160" y="4292640"/>
            <a:ext cx="526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alibri"/>
              </a:rPr>
              <a:t>Zdrowy mózg widziany od góry i z przod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084640"/>
            <a:ext cx="784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SPECT daje obraz 3D; analiza komputerowa pozwala na odtworzenie powierzchni mózgu jak tez niektórych struktur wewnętrzny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Zdrowy mózg ma gładką, równą powierzchnię bez nadmiernych wgłębie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Wgłębienia oznaczają spadek perfuzji krwi przez tkankę, co w konsekwencji upośledza czynność danej części mózgu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Przykłady nieprawidłowych obrazów </a:t>
            </a:r>
            <a:br>
              <a:rPr sz="4000"/>
            </a:br>
            <a:r>
              <a:rPr b="0" lang="pl-PL" sz="4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w badaniu SPEC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4859280" y="1773360"/>
            <a:ext cx="3562560" cy="3560760"/>
            <a:chOff x="4859280" y="1773360"/>
            <a:chExt cx="3562560" cy="3560760"/>
          </a:xfrm>
        </p:grpSpPr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4859280" y="1773360"/>
              <a:ext cx="3562560" cy="356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4859280" y="1773360"/>
              <a:ext cx="3562560" cy="35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5727600" y="573264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Mózg narkoma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187280" y="2060640"/>
            <a:ext cx="2700360" cy="3024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554120" y="5661000"/>
            <a:ext cx="222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Zdrowy mózg podan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dla porównan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Przykłady nieprawidłowych obrazów </a:t>
            </a:r>
            <a:br>
              <a:rPr sz="4000"/>
            </a:br>
            <a:r>
              <a:rPr b="0" lang="pl-PL" sz="4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w badaniu SPEC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572000" y="1916280"/>
            <a:ext cx="3767040" cy="38448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660640" y="6165720"/>
            <a:ext cx="21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Stan po urazie głow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947880" y="2492280"/>
            <a:ext cx="2612880" cy="29275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338120" y="6022800"/>
            <a:ext cx="222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Zdrowy mózg podan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dla porównan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Przykłady nieprawidłowych obrazów </a:t>
            </a:r>
            <a:br>
              <a:rPr sz="4000"/>
            </a:br>
            <a:r>
              <a:rPr b="0" lang="pl-PL" sz="4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w badaniu SPEC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916360" y="1628640"/>
            <a:ext cx="3398760" cy="371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927520" y="5732640"/>
            <a:ext cx="333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Względnie niewielkie uszkodzen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lewego płata czołowe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0T04:22:23Z</dcterms:created>
  <dc:creator>Adam</dc:creator>
  <dc:description/>
  <dc:language>en-US</dc:language>
  <cp:lastModifiedBy>Adam</cp:lastModifiedBy>
  <dcterms:modified xsi:type="dcterms:W3CDTF">2010-09-01T10:35:07Z</dcterms:modified>
  <cp:revision>9</cp:revision>
  <dc:subject/>
  <dc:title>Slide 1</dc:title>
</cp:coreProperties>
</file>